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EE1-86FC-4277-A9A8-1DB14A31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F3B-239E-473C-8F68-E20B3C82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409-DF8A-4C60-9234-40AAEE73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320-227E-44A7-9544-E48F67B1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5C0-DAFD-4E47-A7F8-8AAD97F3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ABD-1CF4-4F74-A732-51AC91ED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029-0951-4AD0-8D6C-9FD44E1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151-21B8-420F-B69C-09B648A3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AF7-19F3-45A9-BB4E-BA2D2338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560-5FFA-4086-B4B8-5C2D7DD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EF1-F3D7-446E-BA64-B19620C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886-62D1-4F60-86E9-16C1B15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6D28-FC75-45E6-9DB5-FEDF14FF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5070600"/>
            <a:ext cx="583236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00cc"/>
                </a:solidFill>
                <a:latin typeface="Arial"/>
              </a:rPr>
              <a:t>EL MAESTRO COMO PROFE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24000" y="1557360"/>
            <a:ext cx="6769080" cy="48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spcBef>
                <a:spcPts val="6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"/>
              </a:rPr>
              <a:t>EL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OBJETIVO DE ESTAS PREGUNTAS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yudar al alumno a 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INTERPRETA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la Bib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Motivarlo a dar su 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TESTIMONIO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levarlo a 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APLICA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la Biblia a su propi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COMPARTI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los conocimientos con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■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n cuatro áreas del crecimiento de la vida crist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2276640"/>
            <a:ext cx="7416720" cy="40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1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0% de lo que l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0% de lo que oy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0% de lo que 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0% de lo que ven y oy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0% de lo que ven, oyen y dic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0% de lo que ven, oyen, dicen y hac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1052640"/>
            <a:ext cx="5924520" cy="566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cc"/>
                </a:solidFill>
                <a:latin typeface="Arial"/>
              </a:rPr>
              <a:t>LOS ALUMNOS APR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570800" cy="409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HAGA PENSAR A SUS ALUM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ffffff"/>
                </a:solidFill>
                <a:latin typeface="Arial"/>
              </a:rPr>
              <a:t>Como Formar Pensadores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Autor: Rene S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711360"/>
            <a:ext cx="6624720" cy="58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宋体"/>
              </a:rPr>
              <a:t>Cada ser humano creado a la imagen de Dios está dotado de la facultad semejante a la del Creador, la individualidad, la facultad de pensar y hacer.  La obra de la verdadera educación consiste en desarrollar esta facultad, en educar a los jóvenes para que sean pensadores y no meros reflectores del pensamiento de otro hombre, en vez de debiluchos educados, las instituciones del saber deberían producir hombres fuertes para pensar y obrar, hombres que sean amos y no esclavos de las circunstancias, hombres que posean amplitud de mente y claridad de pensamiento para defender sus convicci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宋体"/>
              </a:rPr>
              <a:t>”. </a:t>
            </a:r>
            <a:r>
              <a:rPr b="1" i="1" lang="es-AR" sz="1800" spc="-1" strike="noStrike">
                <a:solidFill>
                  <a:srgbClr val="ffffff"/>
                </a:solidFill>
                <a:latin typeface="Arial"/>
                <a:ea typeface="宋体"/>
              </a:rPr>
              <a:t>Educación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宋体"/>
              </a:rPr>
              <a:t>, pág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2206800"/>
            <a:ext cx="7056360" cy="374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o ideal es una clase con unos 8 a 12 alum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i tienen sillas, deben ser colocadas en forma de círculo; si tienen bancos, deben ser acomodados de tal forma que facilite la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muy bueno que estén todos sen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maestro escoge de uno a cuatro versículos bíblicos que contengan la verdad central, el corazón de la le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ea esos pasajes con los alumnos y teniendo como base la lección de la semana, trabaje de esta man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907920"/>
            <a:ext cx="6645600" cy="56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HAGA PENSAR A SU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054080"/>
            <a:ext cx="6842160" cy="5399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REGUNTAS PARA HACER 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(Un minuto como máximo por alum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. ¿Que significado tiene este versículo para us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2. ¿Cuente una experiencia de su vida en que este versículo le ayud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3. ¿Cómo aplicará este versículo a su vida durante la próxima sem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4. ¿Cómo puede usar este versículo en su trabajo misionero y compartirlo en la próxima sem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1197000"/>
            <a:ext cx="8137440" cy="56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tas 4 preguntas tienen un pro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n la pregunta: “¿Que significado tiene este versículo para uste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tá enseñando a 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interpretar la Biblia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ada uno debe saberla interpretar por si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 normal que algunos alumnos, al inicio, no sepan como interpretar o lo hagan en forma equivo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in embargo debemos dejarlos que expresen sus ideas, y al final el maestro, como coordinador cerrará la discusión con la ide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97080"/>
            <a:ext cx="777708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"/>
              </a:rPr>
              <a:t>Con la consi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uente una experiencia de su vida en la que este versículo le ayud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quí el alumno está 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aprendiendo a testifica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Jesús en Mateos 24:14 dice que es necesario para Su re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l principio el alumno podrá tener dificultades. Inclusive, algunas veces, no sabrá como hacerlo. La ES sirve también para enseñar a testifica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4720" y="1366920"/>
            <a:ext cx="784836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spcBef>
                <a:spcPts val="6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uando se lo invita a apl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spcBef>
                <a:spcPts val="6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o conocido a su vid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spcBef>
                <a:spcPts val="499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spcBef>
                <a:spcPts val="499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uando Ud. pregunta “¿Como aplicará este texto en su vida, durante la próxima semana? Ahora el alumno está aprendiendo a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Arial"/>
              </a:rPr>
              <a:t>aplicar lo aprendido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en su vida di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uchas veces la falta de estudio es porque todavía el alumno no ha descubierto que el estudio de la Biblia los ayudará a vivir mejor ho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contagiante escuchar como cada hermano va a aplicar la lección aprendida a su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l final, en unos breves minutos, el maestro dará forma final a esas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1413000"/>
            <a:ext cx="7270920" cy="45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spcBef>
                <a:spcPts val="6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Arial"/>
              </a:rPr>
              <a:t>Cuando preguntamos a los alumn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spcBef>
                <a:spcPts val="6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¿Como puede usar este texto en su trabajo misionero y compartirlo durante la próxima sem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■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En esta pregunta el alumno está aprendiendo a compartir las Buenas Nuevas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■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tá aprendiendo a predicar el evange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S es una escuela mision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3:06:20Z</dcterms:created>
  <dc:creator>Ivan</dc:creator>
  <dc:description/>
  <dc:language>en-US</dc:language>
  <cp:lastModifiedBy>Ivan</cp:lastModifiedBy>
  <dcterms:modified xsi:type="dcterms:W3CDTF">2007-03-21T17:12:21Z</dcterms:modified>
  <cp:revision>104</cp:revision>
  <dc:subject/>
  <dc:title>Slide 1</dc:title>
</cp:coreProperties>
</file>